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2E2-B257-49E2-8EF5-0517452B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EFA2-69AA-4AC6-9B75-7642D5FB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C35-B10D-4A76-B4D6-22804356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F5F-1917-4099-828E-E77BD871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378-9293-4DC0-AF15-813FDAB0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428-50C7-4C90-9375-66051B34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580-D767-4A8A-8CC7-3511061D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526-8E36-4118-BC1D-9F9198F5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810-3120-4E17-BF30-F33185AC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DB2-1E78-4C29-BBD7-5031DB0D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D231-70B6-4F14-8B42-BA468EFF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6404-79F5-4F64-99D7-1E832368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7F15-9C2B-4BED-95AD-CDBE2081D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Sample Size for OR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in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ase-Control or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ross-sectional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Stud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705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7696080" cy="2921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62120" y="5791320"/>
            <a:ext cx="3733560" cy="63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952880" y="5943600"/>
            <a:ext cx="350532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86200" y="5791320"/>
            <a:ext cx="685800" cy="552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724280" y="5791320"/>
            <a:ext cx="369576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62120" y="2743200"/>
            <a:ext cx="99036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489560" y="3289320"/>
            <a:ext cx="164880" cy="27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4495680" y="5791320"/>
            <a:ext cx="83844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2590920" y="4952880"/>
            <a:ext cx="3174840" cy="362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2743200" y="4495680"/>
            <a:ext cx="394956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2514600" y="4710240"/>
            <a:ext cx="4876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7696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06T15:35:27Z</dcterms:modified>
  <cp:revision>42</cp:revision>
  <dc:subject/>
  <dc:title>PowerPoint Presentation</dc:title>
</cp:coreProperties>
</file>